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695-3DBD-4910-99A9-BA979665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82B-FE4C-4954-AFA2-9FC046AB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3F8-94D5-4586-B5D2-6A16E7FB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A55-9279-43D3-A03D-85C41680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4C4-473F-41DA-A2E1-BCE4432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F37-C124-4488-AC16-29238F1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B95-9698-4116-97B8-8C8D374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2FB-395C-4A23-889A-81E8846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F36-381C-414C-84AB-02A0BC84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C5B-9D73-4B00-BAE2-7F2BFBE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F8B-BD32-4C15-80C3-240E4EA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265-FDAB-4C40-A168-4E1078D9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C06-3FB7-4BC8-8610-335E65B3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oncrete 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4724280"/>
            <a:ext cx="424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2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191628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Things you </a:t>
            </a:r>
            <a:r>
              <a:rPr b="1" lang="en-NZ" sz="4800" spc="-1" strike="noStrike">
                <a:solidFill>
                  <a:srgbClr val="cc0000"/>
                </a:solidFill>
                <a:latin typeface="Arial"/>
              </a:rPr>
              <a:t>can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se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284640"/>
            <a:ext cx="64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cc0000"/>
                </a:solidFill>
                <a:latin typeface="Arial"/>
              </a:rPr>
              <a:t>concrete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which is something you can see and tou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4941720"/>
            <a:ext cx="61200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Something touch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G:  plant, rain, paper, chai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Sue</cp:lastModifiedBy>
  <dcterms:modified xsi:type="dcterms:W3CDTF">2007-04-21T11:49:29Z</dcterms:modified>
  <cp:revision>16</cp:revision>
  <dc:subject/>
  <dc:title>Simile</dc:title>
</cp:coreProperties>
</file>